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55A-A575-4A41-B20C-308EC360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075-7197-475B-A6FE-83B84A99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EBB-B4C4-4E9F-A1C4-C62EF714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58B-2A67-493E-9406-4C21DB56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4126-264F-45B7-A969-0B844ECB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D886-FCA7-4A2A-97C9-32D6DEF2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570D-E63F-4E6B-96BC-B0A2D785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D1A6-8532-4C60-B40F-AE3F0FEA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01F6-D9DD-44D3-A3D9-95AD36BC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50D4-90FF-49AA-A215-32285B89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4569-D71F-4640-9B64-CA3512E4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612-6788-4399-AAEE-4179DA5C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B7CE-A45C-43DD-BC6A-5A4685D6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7512-B6CA-416D-B0BE-B130C82C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A30B-F8CD-45E6-8DD7-CADD97AE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238A-CC1F-4196-B498-F19A3B3A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210B-AECD-495C-90A3-124D2530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7DEC7-6888-4FF8-906D-AC82BB45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779E3-4076-4267-9F0B-F66AF9B9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426F2-A1CD-4CEE-AB69-057EC86B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4BA73-5DE8-48DE-945D-26A92B2F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8F8B7-9EC0-47D6-9D7F-4DC35F0B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37B-9ACF-4586-BD7A-D4FD0CCA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B555D-0B3E-4D2D-BB75-8AE7F2A8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EABA1-B607-4EA0-AAC2-B1325532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88C41-FE96-48CC-A433-74D941E5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4F426-E22D-4240-9080-490DE80D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ED3D1-580F-432C-BE60-B7AF1734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93F97-5A26-4F31-96BE-C7ED425A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2F694-1F21-4754-9E5E-3C83CFD3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0FE2-2699-4407-83E3-AD3202E0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EC4-30F7-4E19-97A7-92A9ADA7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B98-BB06-41B8-80C8-CE361CB4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D11-7DB8-476A-BDB9-A09EE462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A1D-DE64-453A-985B-B22AC6BE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4ACB-B92F-489A-842D-29CEF6E0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ed Rectangle 8"/>
          <p:cNvGrpSpPr/>
          <p:nvPr/>
        </p:nvGrpSpPr>
        <p:grpSpPr>
          <a:xfrm>
            <a:off x="262080" y="195120"/>
            <a:ext cx="8619840" cy="6559560"/>
            <a:chOff x="262080" y="195120"/>
            <a:chExt cx="8619840" cy="6559560"/>
          </a:xfrm>
        </p:grpSpPr>
        <p:pic>
          <p:nvPicPr>
            <p:cNvPr id="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195120"/>
              <a:ext cx="861984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ff8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804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2B3B-67D9-45E4-A487-C8A8D6511406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62"/>
            </a:gs>
            <a:gs pos="100000">
              <a:srgbClr val="ecd8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ed Rectangle 7"/>
          <p:cNvGrpSpPr/>
          <p:nvPr/>
        </p:nvGrpSpPr>
        <p:grpSpPr>
          <a:xfrm>
            <a:off x="609480" y="457200"/>
            <a:ext cx="7925040" cy="6035760"/>
            <a:chOff x="609480" y="457200"/>
            <a:chExt cx="7925040" cy="6035760"/>
          </a:xfrm>
        </p:grpSpPr>
        <p:pic>
          <p:nvPicPr>
            <p:cNvPr id="4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609480" y="457200"/>
              <a:ext cx="792504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28640" y="530280"/>
              <a:ext cx="768672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ff8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804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5959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2485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7A70-497B-49E3-9D9B-C5DA08A09D06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7"/>
          <p:cNvSpPr/>
          <p:nvPr/>
        </p:nvSpPr>
        <p:spPr>
          <a:xfrm>
            <a:off x="4740120" y="795240"/>
            <a:ext cx="3961080" cy="5294520"/>
          </a:xfrm>
          <a:custGeom>
            <a:avLst/>
            <a:gdLst>
              <a:gd name="textAreaLeft" fmla="*/ 41040 w 3961080"/>
              <a:gd name="textAreaRight" fmla="*/ 3920040 w 3961080"/>
              <a:gd name="textAreaTop" fmla="*/ 41040 h 5294520"/>
              <a:gd name="textAreaBottom" fmla="*/ 5253480 h 5294520"/>
            </a:gdLst>
            <a:ahLst/>
            <a:rect l="textAreaLeft" t="textAreaTop" r="textAreaRight" b="textAreaBottom"/>
            <a:pathLst>
              <a:path w="21600" h="28871">
                <a:moveTo>
                  <a:pt x="765" y="0"/>
                </a:moveTo>
                <a:arcTo wR="765" hR="765" stAng="16200000" swAng="-5400000"/>
                <a:lnTo>
                  <a:pt x="0" y="28106"/>
                </a:lnTo>
                <a:arcTo wR="765" hR="765" stAng="10800000" swAng="-5400000"/>
                <a:lnTo>
                  <a:pt x="20835" y="28871"/>
                </a:lnTo>
                <a:arcTo wR="765" hR="765" stAng="5400000" swAng="-5400000"/>
                <a:lnTo>
                  <a:pt x="21600" y="765"/>
                </a:lnTo>
                <a:arcTo wR="765" hR="765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ff8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804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34BD-DDBA-4CD4-9FDE-E7AB4CAEA5D7}" type="slidenum">
              <a:rPr b="0" lang="en-US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4" descr=""/>
          <p:cNvPicPr/>
          <p:nvPr/>
        </p:nvPicPr>
        <p:blipFill>
          <a:blip r:embed="rId1"/>
          <a:stretch/>
        </p:blipFill>
        <p:spPr>
          <a:xfrm>
            <a:off x="914400" y="1292400"/>
            <a:ext cx="777240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5"/>
          <p:cNvGrpSpPr/>
          <p:nvPr/>
        </p:nvGrpSpPr>
        <p:grpSpPr>
          <a:xfrm>
            <a:off x="2209680" y="2362320"/>
            <a:ext cx="4953240" cy="4267080"/>
            <a:chOff x="2209680" y="2362320"/>
            <a:chExt cx="4953240" cy="4267080"/>
          </a:xfrm>
        </p:grpSpPr>
        <p:pic>
          <p:nvPicPr>
            <p:cNvPr id="147" name="Picture 3" descr="models_atoms.png"/>
            <p:cNvPicPr/>
            <p:nvPr/>
          </p:nvPicPr>
          <p:blipFill>
            <a:blip r:embed="rId1"/>
            <a:srcRect l="0" t="51389" r="68638" b="0"/>
            <a:stretch/>
          </p:blipFill>
          <p:spPr>
            <a:xfrm>
              <a:off x="2209680" y="2362320"/>
              <a:ext cx="495324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4"/>
            <p:cNvSpPr/>
            <p:nvPr/>
          </p:nvSpPr>
          <p:spPr>
            <a:xfrm>
              <a:off x="2457720" y="5295960"/>
              <a:ext cx="430380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lectron Clou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6"/>
          <p:cNvSpPr/>
          <p:nvPr/>
        </p:nvSpPr>
        <p:spPr>
          <a:xfrm>
            <a:off x="457200" y="304920"/>
            <a:ext cx="838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9900"/>
              </a:buClr>
              <a:buSzPct val="95000"/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test model of the atom is called the ELECTRON CLOUD Model. Electrons are so small and fast that they move in a c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99"/>
              </a:spcBef>
              <a:buClr>
                <a:srgbClr val="ff8000"/>
              </a:buClr>
              <a:buSzPct val="9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ELEME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matter made up of only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one kind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ato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approximately,115-118 known elem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601"/>
              </a:spcBef>
              <a:buClr>
                <a:srgbClr val="ff8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92 naturally occurring elements, plus synthetic element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(made by scientist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anything that ha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as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takes up spa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to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the smallest particle that makes up most types of matt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voisier introduced 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w of conservation of ma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matter is neither created nor destroyed, but only changes for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99"/>
              </a:spcBef>
              <a:buClr>
                <a:srgbClr val="ff8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fore Lavoisier, people used to thing matter could appear and disappea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lton introduced an early atomic theory of matt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00080" indent="-514440">
              <a:spcBef>
                <a:spcPts val="799"/>
              </a:spcBef>
              <a:buClr>
                <a:srgbClr val="8040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oms are too small to be seen by the human ey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00080" indent="-514440">
              <a:spcBef>
                <a:spcPts val="799"/>
              </a:spcBef>
              <a:buClr>
                <a:srgbClr val="8040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ch type of matter is made of only one kind of ato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models_atoms.png"/>
          <p:cNvPicPr/>
          <p:nvPr/>
        </p:nvPicPr>
        <p:blipFill>
          <a:blip r:embed="rId1"/>
          <a:srcRect l="0" t="0" r="69115" b="44979"/>
          <a:stretch/>
        </p:blipFill>
        <p:spPr>
          <a:xfrm>
            <a:off x="1828800" y="1066680"/>
            <a:ext cx="487692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omson discovered that atoms are made of even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maller subatomic particl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s are tiny, negatively charged particles with a measurable mas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 proposed that an atom has a ball of positive charge with electrons embedded in 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models_atoms.png"/>
          <p:cNvPicPr/>
          <p:nvPr/>
        </p:nvPicPr>
        <p:blipFill>
          <a:blip r:embed="rId1"/>
          <a:srcRect l="28771" t="0" r="41995" b="48624"/>
          <a:stretch/>
        </p:blipFill>
        <p:spPr>
          <a:xfrm>
            <a:off x="2438280" y="1295280"/>
            <a:ext cx="43056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utherfor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uggested a new model of the ato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entral part of the atom was the positively charged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NUCLEU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ositively charged particles in the nucleus were called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PROTON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99"/>
              </a:spcBef>
              <a:buClr>
                <a:srgbClr val="ff8000"/>
              </a:buClr>
              <a:buSzPct val="8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scattered in the mostly empty space around the nucleu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Atom"/>
          <p:cNvPicPr/>
          <p:nvPr/>
        </p:nvPicPr>
        <p:blipFill>
          <a:blip r:embed="rId1"/>
          <a:stretch/>
        </p:blipFill>
        <p:spPr>
          <a:xfrm>
            <a:off x="2362320" y="1676520"/>
            <a:ext cx="4343400" cy="46386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533520" y="6858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therford’s Model of an ATO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04920" y="1523880"/>
            <a:ext cx="8153280" cy="467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698400" indent="-514080">
              <a:spcBef>
                <a:spcPts val="700"/>
              </a:spcBef>
              <a:buClr>
                <a:srgbClr val="ff8000"/>
              </a:buClr>
              <a:buSzPct val="9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dwick introduced NEUTRONS particles as part of the nucleus that have NO charge. They ar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neutr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98400" indent="-51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2" descr="e_noyau.JPG"/>
          <p:cNvPicPr/>
          <p:nvPr/>
        </p:nvPicPr>
        <p:blipFill>
          <a:blip r:embed="rId2"/>
          <a:stretch/>
        </p:blipFill>
        <p:spPr>
          <a:xfrm>
            <a:off x="1981080" y="3429000"/>
            <a:ext cx="472464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1:45:55Z</dcterms:created>
  <dc:creator>Liz</dc:creator>
  <dc:description/>
  <dc:language>en-US</dc:language>
  <cp:lastModifiedBy>St. Aloysius</cp:lastModifiedBy>
  <dcterms:modified xsi:type="dcterms:W3CDTF">2014-02-12T17:30:27Z</dcterms:modified>
  <cp:revision>83</cp:revision>
  <dc:subject/>
  <dc:title>Slide 1</dc:title>
</cp:coreProperties>
</file>